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A27E-FBDF-4F23-A383-EE381A44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4D54-3316-4EB3-9832-82CBCFA6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090C-15D3-4C06-BCD5-01FB8405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3B92-308D-479B-8FC3-72A8F3E8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ED32-3A34-4D42-86E0-638A5025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4A9A-8D45-4437-B4E5-2B618C14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1CF6-F214-4310-877B-E15D33AA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512A-176D-4653-AA45-A67FB999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B6BA-8E36-440A-B606-5CB099F8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5DAC-CC35-419F-98A8-06689DBF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F5D5-B32D-4E59-ADE2-F23EDD02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D693-646A-42B5-818C-2DEBA6DC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C2AA-85DA-4205-B49C-F804CE49FA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ntrat de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ervice Formation / Service Comptabilité Fournisseu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609480"/>
            <a:ext cx="5029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Rédacteurs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M. Jean-François, Directeur de la for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M. Olivier, Chef du service comptabilité fourniss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029200" y="609480"/>
            <a:ext cx="1828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14/07/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129528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Besoins du service client :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 service for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Garantir aux fournisseurs de la formation (organismes de formations, hôtels, restaurants, compagnie de transport…) le règlement de leurs factures à la date prévue dans le contrat signé avec eu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297180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Contraintes du fournisseur :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 service comptabilité fourniss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Recevoir les documents comptables suffisamment tôt pour procéder aux contrôles obligatoires et à l’établissement des règle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4648320"/>
            <a:ext cx="685800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Engagements réciproques 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 service formation s’engage à fournir au service comptabilité fournisseurs les documents suivants : copie du contrat passé avec le fournisseur précisant la date de règlement dès la signature de celui-ci + original de la facture fournisseur dès réception et au plus tard une semaine avant la date du règlemen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 service comptabilité fournisseur s’engage à effectuer un virement correspondant au montant de la facture le jour précisé sur le contr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7010280"/>
            <a:ext cx="685800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Indicateurs de mesure 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ombre de contrats adressés par le service formation plus d’un mois avant la date de règl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ombre de factures adressées par le service formation plus d’une semaine avant la date de règl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ombre de factures réglées dans les délais par le service règlement fourniss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8534520"/>
            <a:ext cx="3429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arlow Solid Italic"/>
              </a:rPr>
              <a:t>Jean-Franço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3429000" y="8534520"/>
            <a:ext cx="3429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Harlow Solid Italic"/>
              </a:rPr>
              <a:t>Oliv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0:47:46Z</dcterms:created>
  <dc:creator>MADERS</dc:creator>
  <dc:description/>
  <dc:language>en-US</dc:language>
  <cp:lastModifiedBy>Matthieu Montaudouin</cp:lastModifiedBy>
  <dcterms:modified xsi:type="dcterms:W3CDTF">2009-06-08T09:33:33Z</dcterms:modified>
  <cp:revision>5</cp:revision>
  <dc:subject/>
  <dc:title>Présentation PowerPoint</dc:title>
</cp:coreProperties>
</file>